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2B86-52D4-4DC6-9ABF-BDCC84DFC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632E-EACC-47A6-9E24-F9386622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7580-92EF-43FE-8E91-34BDD5980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1DAE-CC63-4C46-B5F3-44F76C85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208E-A26D-41F6-9E56-486DF4F2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7010-5C03-4082-860E-D6928782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1C40-E715-4130-A904-D2D4D47B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C8CB-C5F7-4606-968A-5EDA2AF2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C467-6F95-4477-B000-0B2A8938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EDBA-B76E-4981-9811-8EBDA9DB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C37E-E6F1-4993-AAE9-748F5612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A851-4AD8-4F43-AF51-566FC649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42B6-EE4D-42C1-B864-513FDF9CF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4032000" cy="10796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ICLO DE VIDA DOCUMENT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3 CuadroTexto"/>
          <p:cNvSpPr/>
          <p:nvPr/>
        </p:nvSpPr>
        <p:spPr>
          <a:xfrm>
            <a:off x="1042920" y="1916280"/>
            <a:ext cx="201636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chivo de tra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4 CuadroTexto"/>
          <p:cNvSpPr/>
          <p:nvPr/>
        </p:nvSpPr>
        <p:spPr>
          <a:xfrm>
            <a:off x="5364000" y="1628640"/>
            <a:ext cx="165600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chivo de concentració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4" name="6 Conector recto de flecha"/>
          <p:cNvCxnSpPr>
            <a:stCxn id="42" idx="3"/>
          </p:cNvCxnSpPr>
          <p:nvPr/>
        </p:nvCxnSpPr>
        <p:spPr>
          <a:xfrm>
            <a:off x="3059280" y="2100240"/>
            <a:ext cx="2089440" cy="33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" name="7 CuadroTexto"/>
          <p:cNvSpPr/>
          <p:nvPr/>
        </p:nvSpPr>
        <p:spPr>
          <a:xfrm>
            <a:off x="1619280" y="3141720"/>
            <a:ext cx="5616720" cy="368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tino fi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9 Conector recto de flecha"/>
          <p:cNvCxnSpPr/>
          <p:nvPr/>
        </p:nvCxnSpPr>
        <p:spPr>
          <a:xfrm flipH="1">
            <a:off x="4426920" y="2276640"/>
            <a:ext cx="1440360" cy="79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7" name="10 CuadroTexto"/>
          <p:cNvSpPr/>
          <p:nvPr/>
        </p:nvSpPr>
        <p:spPr>
          <a:xfrm>
            <a:off x="1476360" y="4869000"/>
            <a:ext cx="215892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chivos históric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11 CuadroTexto"/>
          <p:cNvSpPr/>
          <p:nvPr/>
        </p:nvSpPr>
        <p:spPr>
          <a:xfrm>
            <a:off x="5580000" y="4797360"/>
            <a:ext cx="2016360" cy="6426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jas document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13 Conector recto de flecha"/>
          <p:cNvCxnSpPr/>
          <p:nvPr/>
        </p:nvCxnSpPr>
        <p:spPr>
          <a:xfrm flipH="1">
            <a:off x="2771640" y="3572280"/>
            <a:ext cx="1440360" cy="115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" name="15 Conector recto de flecha"/>
          <p:cNvCxnSpPr/>
          <p:nvPr/>
        </p:nvCxnSpPr>
        <p:spPr>
          <a:xfrm>
            <a:off x="4642920" y="3573360"/>
            <a:ext cx="180108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14:25:24Z</dcterms:created>
  <dc:creator>Windows Vista</dc:creator>
  <dc:description/>
  <dc:language>en-US</dc:language>
  <cp:lastModifiedBy> </cp:lastModifiedBy>
  <dcterms:modified xsi:type="dcterms:W3CDTF">2011-07-13T17:56:29Z</dcterms:modified>
  <cp:revision>2</cp:revision>
  <dc:subject/>
  <dc:title>CICLO DE VIDA DOCUMENTAL</dc:title>
</cp:coreProperties>
</file>